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9AA9-4BB3-4935-A75C-062247938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F255-0B86-4387-9B64-29D5E93D9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8410-8D8C-4D28-A326-B0426294D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72BD-861C-4ED8-8FDF-BBBDD82B1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836C-0BF2-4542-8149-A35D3CDD9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5EC0-2410-47A5-BFDC-41620EC0A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7E1E-7E0B-43F1-B825-0964AC721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12EE-7018-48F0-B847-88BDF15E2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0E5D-B762-4284-B038-F41F87AD1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6CE-1078-4A8B-AAA4-8EBB3A3A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1BB-F73F-4F68-B9B1-65FA2592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9C7-2AB5-4971-A6FE-6E2EFCE6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65F-D892-4DDF-B96B-E50AC841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3FA-817B-4A61-91E8-C7FC0801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6F5-BED5-4953-9627-89391ABC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DF5-19D0-40F4-9031-B83A7D20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F70-D281-4FC0-9C1F-CDC0A911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3AC-06E3-4815-80A8-D80CE53B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637-98AA-4101-81BA-EB113E12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88D-F44F-439B-9D0B-CAF9F358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A67-E7B7-49DF-A4D8-EBD711C2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9067-A596-4BAC-A3AF-81BE916C6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5W-mf6gz2w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Onyx"/>
              </a:rPr>
              <a:t>ICE ROAD TRUCKER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’emission que j’ai choisi pour une example des faux realite est “Ice Road Truckers”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Alexander.Storey\Desktop\french\IRT\title.jpg"/>
          <p:cNvPicPr/>
          <p:nvPr/>
        </p:nvPicPr>
        <p:blipFill>
          <a:blip r:embed="rId1"/>
          <a:stretch/>
        </p:blipFill>
        <p:spPr>
          <a:xfrm>
            <a:off x="2590920" y="2571840"/>
            <a:ext cx="426708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ce Road Truckers est un example de une fausse realite parce que ca exagere les risqu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Alexander.Storey\Desktop\french\IRT\ice-road-truckers-home.jpg"/>
          <p:cNvPicPr/>
          <p:nvPr/>
        </p:nvPicPr>
        <p:blipFill>
          <a:blip r:embed="rId1"/>
          <a:stretch/>
        </p:blipFill>
        <p:spPr>
          <a:xfrm>
            <a:off x="914400" y="228600"/>
            <a:ext cx="7620120" cy="349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e autre example de une illusion de la realite est que c’est tres dramatic et c’est tres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ncroyabl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Alexander.Storey\Desktop\french\IRT\north-ice-road-truckerstv-f.jpg"/>
          <p:cNvPicPr/>
          <p:nvPr/>
        </p:nvPicPr>
        <p:blipFill>
          <a:blip r:embed="rId1"/>
          <a:stretch/>
        </p:blipFill>
        <p:spPr>
          <a:xfrm>
            <a:off x="1752480" y="3048120"/>
            <a:ext cx="5943600" cy="3133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nsuite Il a l’air que c’est déjà prepar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J:\IRT\ice_road_truckers_hugh.jpg"/>
          <p:cNvPicPr/>
          <p:nvPr/>
        </p:nvPicPr>
        <p:blipFill>
          <a:blip r:embed="rId1"/>
          <a:stretch/>
        </p:blipFill>
        <p:spPr>
          <a:xfrm>
            <a:off x="1981080" y="38088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and je regarde Ice Road Truckers, il me fait penser que d’être un camionneur est tre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gereus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Alexander.Storey\Desktop\french\IRT\cp-iceroadtruckers2007.jpg"/>
          <p:cNvPicPr/>
          <p:nvPr/>
        </p:nvPicPr>
        <p:blipFill>
          <a:blip r:embed="rId1"/>
          <a:stretch/>
        </p:blipFill>
        <p:spPr>
          <a:xfrm>
            <a:off x="1828800" y="990720"/>
            <a:ext cx="5562720" cy="3133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acteurs exagere beaucoup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J:\IRT\tv_iceRoadTruckers_01.jpg"/>
          <p:cNvPicPr/>
          <p:nvPr/>
        </p:nvPicPr>
        <p:blipFill>
          <a:blip r:embed="rId1"/>
          <a:stretch/>
        </p:blipFill>
        <p:spPr>
          <a:xfrm>
            <a:off x="1295280" y="1828800"/>
            <a:ext cx="6032520" cy="402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M5W-mf6gz2w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6:42:45Z</dcterms:created>
  <dc:creator>A satisfied Microsoft Office User</dc:creator>
  <dc:description/>
  <dc:language>en-US</dc:language>
  <cp:lastModifiedBy>Alex</cp:lastModifiedBy>
  <dcterms:modified xsi:type="dcterms:W3CDTF">2011-02-20T15:33:35Z</dcterms:modified>
  <cp:revision>7</cp:revision>
  <dc:subject/>
  <dc:title>ICE ROAD TRUCKERS</dc:title>
</cp:coreProperties>
</file>